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190108"/>
        <c:axId val="56386039"/>
      </c:barChart>
      <c:catAx>
        <c:axId val="17190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86039"/>
        <c:crosses val="autoZero"/>
        <c:auto val="1"/>
        <c:lblAlgn val="ctr"/>
        <c:lblOffset val="100"/>
        <c:noMultiLvlLbl val="0"/>
      </c:catAx>
      <c:valAx>
        <c:axId val="56386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90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3B9-7E61-4BB8-8EC7-80C9333D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F36A-752D-4B74-B0A1-ACDEDAC9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DC6-9E23-4173-A8D2-8AF42016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65E-4A61-4CF3-908F-2D21623B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4075-F579-49B3-806B-5DE295A1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717-2951-4CC4-9CE6-8496B336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C96-3808-4C5B-9525-FB2A19C1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241-A761-49D0-8C3A-9BB7EA46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72D-0D06-4593-926C-0232646A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6F4-F758-446F-AAA4-3395A0EB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761-48DB-4F94-933E-4CBF5E2A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D51-3A65-4BCC-B262-F0C543BD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59360-6033-4484-8039-F16F0BFF71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