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631155"/>
        <c:axId val="3637014"/>
      </c:barChart>
      <c:catAx>
        <c:axId val="856311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37014"/>
        <c:crosses val="autoZero"/>
        <c:auto val="1"/>
        <c:lblAlgn val="ctr"/>
        <c:lblOffset val="100"/>
        <c:noMultiLvlLbl val="0"/>
      </c:catAx>
      <c:valAx>
        <c:axId val="36370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6311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C78D-625E-4FFE-9345-F07B30294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0187-099E-4581-AAFE-32409006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5D5E-3E44-4725-822F-ECC94170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BA2F-CC38-4131-A17C-8B074808D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A76C-3D22-46C6-BE41-B9407FA2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1E37-5972-42A6-B7F9-E35C506F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CFA9-81F6-4E28-B88F-8B55FAF9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2A5E-BB47-4247-9673-41CAD540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2894-320F-437B-9629-921C45C1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6855-4A01-4BF1-ACA3-86AB9389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23EB-45A6-485C-830D-4673BB4F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6BB0-C801-4779-A892-D60B2353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7F129-9071-44D5-931F-23D4FD363A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