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84640"/>
        <c:axId val="12896648"/>
      </c:barChart>
      <c:catAx>
        <c:axId val="27084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96648"/>
        <c:crosses val="autoZero"/>
        <c:auto val="1"/>
        <c:lblAlgn val="ctr"/>
        <c:lblOffset val="100"/>
        <c:noMultiLvlLbl val="0"/>
      </c:catAx>
      <c:valAx>
        <c:axId val="12896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84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C2E-6431-41B8-90FF-A79E58CF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A09-6972-4B26-BAE6-436BED7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CFC-62DD-4918-89E7-FA6C7E1F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DAE-446C-4070-8138-751B3D7F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0BD-AD37-4260-BEF2-C3C0F95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116-DCB2-4D89-A89D-25EE42D4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BCB-56C3-4275-BE95-0537839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955-272B-461E-9AE5-2E27FEB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C0B-0027-4A23-A424-E26F80D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B7F-11BD-4AEE-9FD6-C7D14E9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2E3-ADC8-4CAE-8B7A-36362D2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E86-03A7-4674-88C8-3A0A15E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81FCA-D27A-4727-A2C3-CF0B1EA263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