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68467"/>
        <c:axId val="25886623"/>
      </c:barChart>
      <c:catAx>
        <c:axId val="21368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86623"/>
        <c:crosses val="autoZero"/>
        <c:auto val="1"/>
        <c:lblAlgn val="ctr"/>
        <c:lblOffset val="100"/>
        <c:noMultiLvlLbl val="0"/>
      </c:catAx>
      <c:valAx>
        <c:axId val="25886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68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66D-56E8-484F-8E06-0B175B6E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B22-8102-46FA-B651-93CDF89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C1B-AD2D-45C5-8E78-7CFCA729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08F-1FAE-4BB3-A524-47C63EA6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038-E315-48F3-8288-08D1BF29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B6B-B8F6-4E66-8333-8AE05930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E7D-B87C-44C6-96E4-0E5D5DB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708-D1DB-41C7-B624-7DFCA67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E70-40AE-43EE-9E8C-3F3B43B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C0D-1D6D-4B1B-A126-CFD6EEF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4BB-7A78-43CC-98FB-DD8FE2E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482-B676-4013-B802-0447075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B1298-C13E-4E71-8152-999C627C8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