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771073"/>
        <c:axId val="33155606"/>
      </c:barChart>
      <c:catAx>
        <c:axId val="377710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155606"/>
        <c:crosses val="autoZero"/>
        <c:auto val="1"/>
        <c:lblAlgn val="ctr"/>
        <c:lblOffset val="100"/>
        <c:noMultiLvlLbl val="0"/>
      </c:catAx>
      <c:valAx>
        <c:axId val="331556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710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C5B9-72A1-4CBD-9ED4-86F789F4D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B7C7-1B9E-41DA-AD6D-E75FDC83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621B-634D-4BF3-8AB5-EED3C210A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E8FF-B10E-49A2-A59D-10BB268B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1E73-6C1F-4B2D-996B-60AEED32E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012-3443-462F-9100-31E14328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68FF-8651-4CC8-ACE9-43FE3458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2CD8-264D-4E66-87E5-F2BE3F16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60F-211B-45DB-9D64-311D50B55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09E1-D54D-408F-BF36-32C5942E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B2A-BE85-40C9-823D-BC407021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AA86-D764-4B37-89E3-D2EB6208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97FCF-7426-4ED1-8379-E99D2AC2A5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