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43492"/>
        <c:axId val="89742384"/>
      </c:barChart>
      <c:catAx>
        <c:axId val="77434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742384"/>
        <c:crosses val="autoZero"/>
        <c:auto val="1"/>
        <c:lblAlgn val="ctr"/>
        <c:lblOffset val="100"/>
        <c:noMultiLvlLbl val="0"/>
      </c:catAx>
      <c:valAx>
        <c:axId val="897423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434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5BC8-BD0E-4F48-9F82-BDB5FF5A9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94E2-B146-465E-92CB-BC80A43E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C041-0807-412D-85AC-266378AA6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CF12-2E02-40D6-8A6E-4D6883D5F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F29C-7FDD-42E2-848D-CD91D981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EB85-650A-4F51-84C8-34A417F9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2D95-FE65-4686-A3E6-D2E866BD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02BE-A166-4824-A0BA-EF8CA310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A72C-7FD4-4697-B7EC-6586B74E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945A-B1F3-4CE5-BDB2-FB09549F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A804-74AD-49DC-9124-FB0EDEF4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BD8E-99D1-4C80-959F-EB6B2951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D2F66-0F84-4779-8DEC-07FEC6E623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