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53415"/>
        <c:axId val="26180169"/>
      </c:barChart>
      <c:catAx>
        <c:axId val="63153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0169"/>
        <c:crosses val="autoZero"/>
        <c:auto val="1"/>
        <c:lblAlgn val="ctr"/>
        <c:lblOffset val="100"/>
        <c:noMultiLvlLbl val="0"/>
      </c:catAx>
      <c:valAx>
        <c:axId val="26180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3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2CD-4EB5-47B1-82C0-63502BB3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204-0B14-465E-948C-3FDC55C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F98-7C58-4E1A-AB16-56630940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5C3-C2BD-4CFA-B8FC-877FE91B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0EF-27A3-4E41-9BBD-68377143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1B4-C8CA-4D0D-ABD0-7387CB8D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8A9-6303-456F-A651-63B9F6C2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D78-94AC-4796-8424-32FFF69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93C-C932-4724-B810-66E6046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38A-B340-4B3E-AA3E-E6610C5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F8C-8C57-489F-B1EB-6438E7C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E18-B409-42E2-8324-4652E01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B321-A966-40FC-864A-6DF6E17E02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