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822729"/>
        <c:axId val="56685678"/>
      </c:barChart>
      <c:catAx>
        <c:axId val="758227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685678"/>
        <c:crosses val="autoZero"/>
        <c:auto val="1"/>
        <c:lblAlgn val="ctr"/>
        <c:lblOffset val="100"/>
        <c:noMultiLvlLbl val="0"/>
      </c:catAx>
      <c:valAx>
        <c:axId val="566856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8227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6C3A-0240-476F-856F-76059F8E7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7A31-A054-4DD3-9F37-5F027DA8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8D54-A6E6-4F4B-9B6E-B0B038AC5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1F0A-DDE4-42BD-89BA-2F0B951D8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EAE0-45FE-4EEC-AE33-A3BFD35A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436C-AE85-4E74-9151-E8E33847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B4B7-F4EB-4383-B9FC-2BA711AA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285A-84F1-4D76-BDD0-4AB8C33D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7F57-5374-45A9-967B-E3031C24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43D9-8C23-47C9-8954-EC82B589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8028-321B-4166-AB81-7CFF7A9E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8570-791E-4B17-AED0-9A2F1F49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552C7-88EF-46DF-93B0-B27D682803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