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6902"/>
        <c:axId val="9088318"/>
      </c:barChart>
      <c:catAx>
        <c:axId val="5716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8318"/>
        <c:crosses val="autoZero"/>
        <c:auto val="1"/>
        <c:lblAlgn val="ctr"/>
        <c:lblOffset val="100"/>
        <c:noMultiLvlLbl val="0"/>
      </c:catAx>
      <c:valAx>
        <c:axId val="9088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6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29D-9588-4BD1-9A38-F7543CBB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270-0616-4E5A-90BE-E84CB04C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867-D698-47A1-A77D-92FE5D59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18C-0EC8-4A49-8059-96660362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C21-4689-47CE-88D1-15B14FA0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262-CC41-448D-95EE-9B949446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AF9-D854-4237-A2F6-7EB4A5E5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E76-8CA5-46F2-9E09-E933CBD7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A65-C47A-4076-9D85-866389BF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1B8-1173-4AD2-BA45-851DB635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BDD-6B6D-4B97-92E0-76E2140A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4D4-F1B8-4F04-82D0-6BDD6E68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9D385-CABE-46CE-8F6A-A7047B99AD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