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455896"/>
        <c:axId val="44426457"/>
      </c:barChart>
      <c:catAx>
        <c:axId val="974558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26457"/>
        <c:crosses val="autoZero"/>
        <c:auto val="1"/>
        <c:lblAlgn val="ctr"/>
        <c:lblOffset val="100"/>
        <c:noMultiLvlLbl val="0"/>
      </c:catAx>
      <c:valAx>
        <c:axId val="444264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558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431F-F184-4735-8655-786443F4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3BB9-43A0-419D-839C-97EDEC3F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7E55-2989-41DC-87A2-C73A2F2DC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9066-3ECC-4F80-BD3F-C134E2767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AEF4-A8E1-4870-9AF3-38669346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51FF-188E-4E46-A5B2-5D6CE12A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8D67-FFD4-445C-9D3B-9A4C8C41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5FE1-D322-4A3C-82D5-0340B7D5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B6F7-35BC-4B89-9A09-DE028221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D648-080C-4F04-92F5-F61F4D33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3316-D68A-447E-9B1D-46BF1C40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6984-FF14-4A71-8692-EC4BD6B1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F1438-DFFB-4DE9-90B7-4A073505ED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