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28268"/>
        <c:axId val="63264094"/>
      </c:barChart>
      <c:catAx>
        <c:axId val="391282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64094"/>
        <c:crosses val="autoZero"/>
        <c:auto val="1"/>
        <c:lblAlgn val="ctr"/>
        <c:lblOffset val="100"/>
        <c:noMultiLvlLbl val="0"/>
      </c:catAx>
      <c:valAx>
        <c:axId val="63264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282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A2E-5EA7-4194-A3A1-FCEF7073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E1D-ABDC-41A0-82DC-9C4CB7FB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C32C-8084-4106-9812-6D5D0E3B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DF3-ABFD-4483-8484-A1831D1C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49D-4358-4F63-BF20-718B1FE3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B19-0ADC-47B9-9B15-7840C7B6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3A5-A470-4DCD-93CB-CBD0E1BC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13C-B20D-4806-8786-1E937781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0FA-F4E3-4E2A-9278-994DE6D0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9BD-A070-463E-8FB7-D54F751E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C9AC-0AF4-47BB-8CFB-5AD67F73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AA0-B5C3-4562-BC01-D97BCA2C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D3C44-2514-4294-BEEA-7F4261DD6F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