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479716"/>
        <c:axId val="62555055"/>
      </c:barChart>
      <c:catAx>
        <c:axId val="904797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555055"/>
        <c:crosses val="autoZero"/>
        <c:auto val="1"/>
        <c:lblAlgn val="ctr"/>
        <c:lblOffset val="100"/>
        <c:noMultiLvlLbl val="0"/>
      </c:catAx>
      <c:valAx>
        <c:axId val="625550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4797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9EC3-7527-4E7C-8264-65A76CC62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93CF-B0ED-40FF-BB60-4799E6AE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A0BB-5496-4D31-9532-DF38804BB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34B0-590B-4A72-AC09-74B39FAA1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F500-E48A-4857-84D9-6CD6A61D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DB40-D1DE-401D-AACD-321752C0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D052-D919-4286-958F-239B572E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7162-B58C-48D7-9E7C-E5E4FC1C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E60B-F3B4-4887-ACB3-683FBD77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9A53-4BFF-4018-A644-216AD7E4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0810-9C7B-468D-874C-AACF0DE5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8BB3-02CE-4011-9051-2D8FA9D9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54808-6DF8-44D9-8815-84F53AD3EF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