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87804"/>
        <c:axId val="75486211"/>
      </c:barChart>
      <c:catAx>
        <c:axId val="54587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86211"/>
        <c:crosses val="autoZero"/>
        <c:auto val="1"/>
        <c:lblAlgn val="ctr"/>
        <c:lblOffset val="100"/>
        <c:noMultiLvlLbl val="0"/>
      </c:catAx>
      <c:valAx>
        <c:axId val="754862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87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EA4-98FC-4454-93CE-74CE7B6A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370-F796-45B0-BE5B-00B8B82C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686B-E78A-4C81-85FC-D20AE2C9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752A-6291-4B58-A60C-2937B384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9A9-1F76-459E-B2B1-727A0D40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E68B-4192-44F6-B410-10D2BAA4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04A-6455-486C-B023-BBCD268D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BBD9-DAB0-407D-AF4E-A2C3FC14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507-0126-49E3-B332-BD343E35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FA7-7B5B-4337-AD99-721AA899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506A-242E-441E-8BBB-EC7BD299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349-1DBC-4639-BB66-B13D5867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9EF1E-2AED-4CB2-90AE-37E5435A0F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