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65292"/>
        <c:axId val="47990944"/>
      </c:barChart>
      <c:catAx>
        <c:axId val="86565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90944"/>
        <c:crosses val="autoZero"/>
        <c:auto val="1"/>
        <c:lblAlgn val="ctr"/>
        <c:lblOffset val="100"/>
        <c:noMultiLvlLbl val="0"/>
      </c:catAx>
      <c:valAx>
        <c:axId val="47990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65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159-19A7-4C9B-ACC1-84765FC1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104-9C8C-4502-81C4-D7061F1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60F-8E10-45E1-A267-F013603F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7B3-7EFC-4A53-BC29-6C79F86A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D55-3366-4B31-B1E7-E1546918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91C-FA29-41BD-A7E0-4B724A4E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82D-104B-4D32-AA7C-DE37AFFC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1E5-B94C-4670-8B17-FEED42B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3D3-48E1-4871-89F5-EFF2A04D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48F-AC21-4186-9FA1-EC9C8828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E57-28A0-472B-A6D3-A5D86332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66C-82E1-4C8D-9BAE-FB0C369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44CA8-09E0-48C2-9B10-450656810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