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78498"/>
        <c:axId val="21629705"/>
      </c:barChart>
      <c:catAx>
        <c:axId val="466784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29705"/>
        <c:crosses val="autoZero"/>
        <c:auto val="1"/>
        <c:lblAlgn val="ctr"/>
        <c:lblOffset val="100"/>
        <c:noMultiLvlLbl val="0"/>
      </c:catAx>
      <c:valAx>
        <c:axId val="21629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784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D40-03CD-4209-8662-FCADA062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757-698D-4662-BF71-5BD9D9CC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DF2-BAA8-4173-8174-56706C9E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DF2-EDE2-40D5-A741-351990F6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852-A37D-440D-916A-034B7D04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0B9-B587-4036-BA45-3904D55D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BF08-4F11-4D58-885A-CE5DE4DC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C15-8552-4667-844C-9C74ED19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379-7BB3-4BD7-B0AF-0CCB94B9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4566-21FA-4A12-A5C4-C2E98D21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5D1-6607-4E0D-96A9-4FDD9DF6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4F2-2953-4EE0-9234-12BB175E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D4A7E-449E-40ED-80A9-AEEBEB1ACE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