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12341"/>
        <c:axId val="59373383"/>
      </c:barChart>
      <c:catAx>
        <c:axId val="25212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73383"/>
        <c:crosses val="autoZero"/>
        <c:auto val="1"/>
        <c:lblAlgn val="ctr"/>
        <c:lblOffset val="100"/>
        <c:noMultiLvlLbl val="0"/>
      </c:catAx>
      <c:valAx>
        <c:axId val="59373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12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AB8-AA87-4A5D-8406-6F2A0E0F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C2B-186F-475D-806A-2A98546E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DD4-16CB-4753-A941-BBB26D10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88A-DCA5-47DC-B1A0-755802B7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A90-5DED-4137-BD2F-9BDEF4FF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BC4-7B9B-4BF1-B244-4F2AD03F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06D-A67D-48E8-B382-4D01D3A9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238-55A1-48F1-8C4A-3EA42012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A1F-F5BB-4780-87F2-3A9DA519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D223-E56D-4341-AE99-2D6F690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9F5-AD12-4DE5-A6E4-A1F9C34A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DAC-68EC-4963-B2B5-D7706849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DB57F-9BE9-47C7-9432-01903BE014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