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237149"/>
        <c:axId val="33011416"/>
      </c:barChart>
      <c:catAx>
        <c:axId val="292371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011416"/>
        <c:crosses val="autoZero"/>
        <c:auto val="1"/>
        <c:lblAlgn val="ctr"/>
        <c:lblOffset val="100"/>
        <c:noMultiLvlLbl val="0"/>
      </c:catAx>
      <c:valAx>
        <c:axId val="330114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2371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1DFF-EB49-4785-9E14-AFA8F45E0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F2C5-FF13-4979-A1D3-15C781E73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5114-9176-45D8-A65A-8A4960085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AF3B-BD30-4997-B545-A17B65B90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8FEE-92D7-45E1-8E52-83EDB0EA9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2F26-5837-4538-BDDC-CC625DCBF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F3D7-6E63-4113-9F7B-57176622D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E0CE-60F4-45C9-B2EB-008B39B36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2092-E39C-4382-B2B0-7DB902BEC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3379-DED8-4B11-ADA0-3CD2376B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F45B-EDB1-45CD-9031-A46C5036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54A5-B9B7-4733-973F-FC1101F39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725E0D-58B1-448F-A89C-FA6217E25E7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