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503"/>
        <c:axId val="49068025"/>
      </c:barChart>
      <c:catAx>
        <c:axId val="7796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8025"/>
        <c:crosses val="autoZero"/>
        <c:auto val="1"/>
        <c:lblAlgn val="ctr"/>
        <c:lblOffset val="100"/>
        <c:noMultiLvlLbl val="0"/>
      </c:catAx>
      <c:valAx>
        <c:axId val="49068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444-70C6-4DCC-BECD-F02AB1C2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CEE-2C24-4FBC-8AF6-9ED9A03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7F1-0016-4F2B-A97F-671E1F23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ADB-75D4-4A9B-A594-6ED97F5C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DF1-AAF1-41DF-BCDF-50105A8A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3B3-9695-4663-9C28-E6997AE7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D33-8F3A-482D-96B8-EF00024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17A-7675-4C95-B15D-BEFC9C4D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EAE-CBD4-4FF9-805E-97AD1440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5F0-4196-469D-822B-4D813CC6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207-79E7-4012-ACEF-EF7D5E4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128-E8E0-41A0-9442-F00DFD4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D9875-2A7F-49E3-A16E-909F0DCEA5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