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6717"/>
        <c:axId val="51014048"/>
      </c:barChart>
      <c:catAx>
        <c:axId val="52766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4048"/>
        <c:crosses val="autoZero"/>
        <c:auto val="1"/>
        <c:lblAlgn val="ctr"/>
        <c:lblOffset val="100"/>
        <c:noMultiLvlLbl val="0"/>
      </c:catAx>
      <c:valAx>
        <c:axId val="5101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6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0C1-6DEA-4965-AF9B-D90A9D4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8FA-9A30-4E93-85D1-28910CE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DBC-6F89-4417-83E1-E1E3DDA9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31D-E9CD-4A6C-B1CE-01D43351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3CD-AF96-4E1D-A246-AF59A6DB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4D8-2457-4607-AD0A-32F8E8EF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E0C-C0C8-47DE-8835-B6087279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C67-83BB-471B-970D-591AE7F9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A74-0137-4A9E-8FC7-1E86EFD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BAC-0E89-4343-91A3-7FBF928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2C1-D107-4C79-AB22-905F8B6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F98-385C-481B-B7A1-5A66FB5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FC86D-2B7D-4EE7-9C99-40E79B33A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