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34340"/>
        <c:axId val="75442934"/>
      </c:barChart>
      <c:catAx>
        <c:axId val="2633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2934"/>
        <c:crosses val="autoZero"/>
        <c:auto val="1"/>
        <c:lblAlgn val="ctr"/>
        <c:lblOffset val="100"/>
        <c:noMultiLvlLbl val="0"/>
      </c:catAx>
      <c:valAx>
        <c:axId val="75442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3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63E-3DD2-4D56-B907-12F2EEE6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256-0E4A-4397-A731-9C3BB0F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DF6-BDC9-4706-9C5F-7597A3F5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238-4F07-4D18-A25E-21B6D3E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0B4-C053-4F88-9E56-765AFD4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0F4-017D-490F-9679-4EF0DF8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AD4-3581-4176-87BD-F7C27B5E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965-8ECF-4A25-B067-5AEAFA73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16A-3F20-4F2C-B600-FA68077C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774-7099-4908-8E4D-3736333F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589-876F-42A8-9258-ADC45CC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CAE-F1D0-4321-B3A4-C834563B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97680-D03F-4EE3-9473-9F3F689263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