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30780"/>
        <c:axId val="39673964"/>
      </c:barChart>
      <c:catAx>
        <c:axId val="45930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73964"/>
        <c:crosses val="autoZero"/>
        <c:auto val="1"/>
        <c:lblAlgn val="ctr"/>
        <c:lblOffset val="100"/>
        <c:noMultiLvlLbl val="0"/>
      </c:catAx>
      <c:valAx>
        <c:axId val="39673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0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FF5-A985-4BBD-9E94-854320CB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4DA-8BE6-4111-9307-CDD4240C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0F5-329C-4926-959B-E1D46639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FBD-C88D-4DED-9653-AFA8A65C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B59-9F1D-4C63-9F42-0E981107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5DB-AD3F-4592-B7AA-D52850F9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6DF-9733-4A7F-A7FC-AA4A08BE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3F1-A820-43B1-B3A0-591BAF5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215-1C29-40AF-8219-00AAFBFD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588-6C0B-42B9-A9F7-166F49A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F61-F4F4-43F9-8AE4-BA5CF02B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F20-D72F-435E-94C7-FABC20B7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9D164-9BAE-41DC-9E0A-7B650FD753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