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19257"/>
        <c:axId val="93647299"/>
      </c:barChart>
      <c:catAx>
        <c:axId val="39019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47299"/>
        <c:crosses val="autoZero"/>
        <c:auto val="1"/>
        <c:lblAlgn val="ctr"/>
        <c:lblOffset val="100"/>
        <c:noMultiLvlLbl val="0"/>
      </c:catAx>
      <c:valAx>
        <c:axId val="93647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19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B6E-B950-4CE9-80DF-F6B7F26E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216-913E-4ECC-9CEB-44B19B42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791-4D87-4759-B378-5C705819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A08-22C2-4244-A580-02D8B204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2DA-7934-458C-AD92-9E071EEB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57D-555A-4ED6-8B3F-B1285810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15E-97FA-47C2-AC61-3CBA4F59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503-5379-4312-9A17-F25CA433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92E-6F53-4B22-A852-BF27BB0A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18C-E56C-444D-9A08-E09288E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BAD-5469-4EB1-BBE4-AADA4792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D5F-BAEE-47CC-9272-237EC50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D21DD-6682-426E-B980-27CAC6BAE2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