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8350"/>
        <c:axId val="79631397"/>
      </c:barChart>
      <c:catAx>
        <c:axId val="6648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31397"/>
        <c:crosses val="autoZero"/>
        <c:auto val="1"/>
        <c:lblAlgn val="ctr"/>
        <c:lblOffset val="100"/>
        <c:noMultiLvlLbl val="0"/>
      </c:catAx>
      <c:valAx>
        <c:axId val="79631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93F-5D8E-4455-8E34-84E89D7D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967-2702-490F-AC20-33F3508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5CB-21D8-4CF2-8007-377104CD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E7A-2BFF-4FC1-A148-33A68A64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043-033C-4C86-9788-64ED01E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2E7-8849-418D-ABD3-1C79927C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753-5A18-4E63-B48F-7D00D01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097-7EA3-410E-ACA7-850E6C0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46B-1C22-4A77-92CE-5245BD15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2B9-A120-487D-90C7-E677F26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E03-C0F1-44B2-AAFD-ABA52ED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0CA-6948-4BED-9263-F11A949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F811-3C30-4209-BC33-B9873DF7B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