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5456"/>
        <c:axId val="95055750"/>
      </c:barChart>
      <c:catAx>
        <c:axId val="13745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5750"/>
        <c:crosses val="autoZero"/>
        <c:auto val="1"/>
        <c:lblAlgn val="ctr"/>
        <c:lblOffset val="100"/>
        <c:noMultiLvlLbl val="0"/>
      </c:catAx>
      <c:valAx>
        <c:axId val="95055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5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D50-1E11-45FF-B067-A1198206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4AD-3F44-4F93-8086-919CB4F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6EF-39BC-4C8A-886D-484798F9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913-F223-489F-8D98-39D37B87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245-45BF-45E4-8E40-D1C874A1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DFC-1A14-45DB-AA1D-5D4136B2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96C-07A1-45FE-AAF0-6809473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975-0DED-477C-B4CC-CA0A386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45A-FBBF-4F13-AA1F-91B1FE8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F86-2701-4023-93B3-4A98B1F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5AC-8A06-4E7C-8927-3A31DFED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738-F924-4E0E-89A9-B6037F3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EBFCE-E660-4F8D-816F-2A09AF090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