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99664"/>
        <c:axId val="93653256"/>
      </c:barChart>
      <c:catAx>
        <c:axId val="985996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53256"/>
        <c:crosses val="autoZero"/>
        <c:auto val="1"/>
        <c:lblAlgn val="ctr"/>
        <c:lblOffset val="100"/>
        <c:noMultiLvlLbl val="0"/>
      </c:catAx>
      <c:valAx>
        <c:axId val="93653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996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0B8-3B02-4CF0-BBAA-C23AE2EF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E6FC-21F7-4FD3-95E3-EA557B3C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01E9-EC63-4DB7-B53D-9F87354A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EB0-D952-4C50-A514-A904CBBD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0F9-723D-4BD8-A103-ECA0DC01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BC6-CFA8-454D-AD12-AD68498C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D87D-5D5F-42A3-AE3B-EF26E861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C62-2A59-47C5-9A08-BF043243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147-51EC-44C2-8F25-D11D14C8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9FF9-9813-4C06-B4A1-2AD1094F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6DB-97D0-47D0-989D-099C2EFB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F73B-29CE-4B5A-9AF6-716C34DE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28080-B046-4C0A-95ED-EA1800A713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