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23301"/>
        <c:axId val="47179069"/>
      </c:barChart>
      <c:catAx>
        <c:axId val="71823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79069"/>
        <c:crosses val="autoZero"/>
        <c:auto val="1"/>
        <c:lblAlgn val="ctr"/>
        <c:lblOffset val="100"/>
        <c:noMultiLvlLbl val="0"/>
      </c:catAx>
      <c:valAx>
        <c:axId val="47179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23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055-44A1-4D54-980C-7A61600B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E6C-7DCA-4F84-8E5F-F954C2D4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1B3-79A1-4825-A977-30BEBF63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72C-DB3A-4B15-BF6A-7848EF10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189-2F33-435B-A3B6-04F1BBC8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D76-FB62-429F-8272-A21A5A9C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68A-7C37-4C1A-87B2-14B61754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859-5039-4AEE-BC46-87D6436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253-618E-44AD-BF5C-3460AD1C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58F-373B-4E3E-8005-C2ECACC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6C9-51FB-4668-BEBE-3CE009A7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390-7027-428F-B2BD-7095FB5D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2A8E6-6430-49D0-A079-8DA33F5379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